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3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272-CEE2-4301-8D7D-8CE04107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F61-5CE6-4626-B920-05B3D052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E14-947E-4A80-B728-146EC35B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183-6DF4-435D-A304-32FD6D3C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F478-784E-4D09-803C-868F9223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DE73-2C4D-44B5-AE19-C71ACDDC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D4A3-ACAB-49C1-8E4E-21D664AF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877F-B50C-4D08-ACAD-49D02FD6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0F68-45C5-4B24-B1FA-194F8980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7C29-846E-4736-980C-0E4EFD20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D849-7189-4AF5-A6D1-6F00FAF9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1A5-0A95-419F-84BE-BE490BCE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919D-C1EC-4C0B-AA9A-E2ACFA98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80A2-7BA7-4347-A37C-6F4DEB18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3499-740A-4B75-8F9D-63CC5669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F7C4-7D74-4E52-8FFD-002FAFE5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B732-9549-41A0-BD29-73DEC7CB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FC9-2342-454A-B4B7-2657B970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C47-7A33-4DBA-9E03-B7F2DF04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A9E-F9EB-4921-A302-5C235A32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398-D746-4121-A604-D6B967BA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9A5-D500-4C18-90BD-84125F96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DB2-30F8-42CF-BE53-D9B26C97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F90-5883-446F-8811-37E38ED8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C Futura Casu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CAC Futura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EF0F-055B-4D92-B62F-D55663AEFBF0}" type="slidenum"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C Futura Casual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7446-0B0B-4F65-B27A-113F8B90456C}" type="slidenum"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  <a:p>
            <a:pPr lvl="1" marL="4068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C Futura Casu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lvl="2" marL="813600" algn="ctr">
              <a:spcBef>
                <a:spcPts val="799"/>
              </a:spcBef>
              <a:buClr>
                <a:srgbClr val="000000"/>
              </a:buClr>
              <a:buFont typeface="CAC Futura Casu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C Futura Casu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  <a:p>
            <a:pPr lvl="3" marL="1220400" algn="ctr">
              <a:spcBef>
                <a:spcPts val="700"/>
              </a:spcBef>
              <a:buClr>
                <a:srgbClr val="000000"/>
              </a:buClr>
              <a:buFont typeface="CAC Futura Casu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C Futura Casu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lvl="4" marL="1627560" algn="ctr">
              <a:spcBef>
                <a:spcPts val="700"/>
              </a:spcBef>
              <a:buClr>
                <a:srgbClr val="000000"/>
              </a:buClr>
              <a:buFont typeface="CAC Futura Casu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C Futura Casu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lvl="5" marL="1627560">
              <a:spcBef>
                <a:spcPts val="700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C Futura Casu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lvl="6" marL="1627560">
              <a:spcBef>
                <a:spcPts val="700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C Futura Casu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Adding Integers</a:t>
            </a:r>
            <a:endParaRPr b="0" lang="en-US" sz="8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4" name=""/>
          <p:cNvSpPr/>
          <p:nvPr/>
        </p:nvSpPr>
        <p:spPr>
          <a:xfrm>
            <a:off x="3311640" y="196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76676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65055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64292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8334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0038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8251920" cy="86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95280" y="3048120"/>
            <a:ext cx="624852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7696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5438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79250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454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73821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990720"/>
            <a:ext cx="41990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8534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83534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2388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848052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7972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8397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97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74772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861048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4:20:22Z</dcterms:created>
  <dc:creator>nshastry</dc:creator>
  <dc:description/>
  <dc:language>en-US</dc:language>
  <cp:lastModifiedBy>PSD</cp:lastModifiedBy>
  <dcterms:modified xsi:type="dcterms:W3CDTF">2009-09-18T18:52:22Z</dcterms:modified>
  <cp:revision>6</cp:revision>
  <dc:subject/>
  <dc:title>Learning to Write</dc:title>
</cp:coreProperties>
</file>